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969-CE87-4C91-8453-B0D97209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5D6-51C3-4EB6-B52F-DF46C240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6F3-292F-46E6-9843-AFFF6555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3FF-DAC8-4F97-80BE-B587C9C9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EF32-1D37-4530-BB4F-D576D1A9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B814-D806-4021-BDCB-2A6B9B08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ED7A-2C6F-46BB-ABA2-C4A61C2D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2BC3-2A77-43FE-8503-6BAE057E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37BB-F1F8-46D5-ACDD-97D70CF0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43B8-D678-4F71-AE95-2EF5DCB7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E638-CB7F-4E2F-A5D8-516B8E93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B76-13A8-4ABC-BE92-596AA652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A32C-2893-425B-9919-3B069190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8317-5A1E-487E-B3B0-75D90485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899A-BB5B-417F-B54E-7F05F7D5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4188-0F88-4342-984E-787202F5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7ACA-19A9-486F-BA47-D711D97F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4536-2401-4444-AB38-84E4168A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3AA5-086D-409B-9A4F-9A178486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B6C-24DD-4690-BA9F-2C25704E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9A3-49E8-45EB-A2B9-FDD58B7B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81E-D3B8-437E-AE89-30E51FAE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8FC-D2F0-40A0-9525-CF35B1C4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481-77E0-4A8E-BEBC-BDD7F826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B58E-590C-421C-989C-B3320AC6C1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F51B-FB0B-4690-9325-D153EB9A8F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imlich Maneuver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asha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733920" y="5035680"/>
            <a:ext cx="2438280" cy="1822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20533800">
            <a:off x="228240" y="4723920"/>
            <a:ext cx="2286000" cy="1722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 rot="1672200">
            <a:off x="6857640" y="5029200"/>
            <a:ext cx="2057400" cy="1549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388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1:ask to stand if sitt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yourself slightly behind the standing victim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5410440" cy="38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Step 2&amp;3:Reassure the victim that you know the Heimlich maneuver and are going to help.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your arms around the victim's wa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5486400" cy="39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Step5:Make each squeeze-thrust strong enough to dislodge a foreign body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fist with one hand and place your thumb toward the victim, just above his or her belly butt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1800" y="3624120"/>
            <a:ext cx="4724280" cy="32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6:Grab your fist with your other hand.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b your fist with your other h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4719600" cy="32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7:prepare to squeez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 five upward squeeze-thrusts into the abd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71800" y="2681280"/>
            <a:ext cx="5105520" cy="33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8:deliver foo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hould help push the item out of the victims tro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5:24:30Z</dcterms:created>
  <dc:creator>769579</dc:creator>
  <dc:description/>
  <dc:language>en-US</dc:language>
  <cp:lastModifiedBy>769579</cp:lastModifiedBy>
  <dcterms:modified xsi:type="dcterms:W3CDTF">2008-10-28T16:11:35Z</dcterms:modified>
  <cp:revision>3</cp:revision>
  <dc:subject/>
  <dc:title>Heimlich Maneuver  </dc:title>
</cp:coreProperties>
</file>